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56B-13FF-4F36-92F5-D16CB37A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54D-8A50-4987-A508-1EFDF6EB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788-F577-4474-827A-50FD2257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BF2-635A-49F8-8AEB-F7400EAB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3E15-8C07-4AD5-BB3E-C7C18530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2EA3-D1EA-42D1-9DD7-F01DA5B0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2D2E-F9AA-4F10-ADB8-D980108D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33DE-F2C7-4BDE-A3F1-BA653F88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24E6-142B-4B3B-A47E-612633D7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00C3-12B5-44F1-B6AA-B2767778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AC47-38AA-4841-B4B5-E29E1BF6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995-4633-4E68-BE06-A6157786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E69F-F440-4F84-A307-7329EB93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F052-8DC8-4213-8235-B105B996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FCF3-3482-4C1F-B8E5-213F9817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A6F8-2312-4F1D-8F87-23C87C8B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CC6C-4C46-49E3-A76F-08B1AFF3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313-1750-4A2C-BBDB-6D04242A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221-25B9-4EAF-86F3-01D77B69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E37D-33B0-4645-9CB1-4457EB69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28B-5284-4729-9C2F-CEC22D0F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10C-CA57-4173-BF76-DD51EB45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91C-6787-4C7F-975D-0C7DCBFE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DC0-F3E3-410A-9581-C6780AC7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4ED1-2361-4493-87B6-336A7A75455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D1EC-D9BE-43A7-81EB-4F6A5D80EB3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etmuesem.org/" TargetMode="External"/><Relationship Id="rId2" Type="http://schemas.openxmlformats.org/officeDocument/2006/relationships/hyperlink" Target="http://www.art.com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Arial"/>
              </a:rPr>
              <a:t>Auguste Rodin</a:t>
            </a:r>
            <a:r>
              <a:rPr b="1" lang="en-US" sz="66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is a waste of time if you use the experience wise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uguste Rod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Gabriel Mor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05880" y="48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55080" presetSubtype="149604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ac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November 12, 18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d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scul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rolled at Ecole Imperiale de Dessin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975280" y="685800"/>
            <a:ext cx="2820960" cy="3352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724280" y="4114800"/>
            <a:ext cx="3213360" cy="203184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act 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din was known for his sculp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the “Think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one of his famous art works is the “Ki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620800" cy="327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828800" y="3670200"/>
            <a:ext cx="2502000" cy="3187800"/>
          </a:xfrm>
          <a:prstGeom prst="rect">
            <a:avLst/>
          </a:prstGeom>
          <a:ln w="0">
            <a:noFill/>
          </a:ln>
        </p:spPr>
      </p:pic>
    </p:spTree>
  </p:cSld>
  <p:transition advTm="9000">
    <p:zoom dir="in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8" presetSubtype="149738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0" presetSubtype="149740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0" presetSubtype="149740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0" presetSubtype="149740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0" presetSubtype="14974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0" presetSubtype="149745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act 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din was a very demanding art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monuments of famous people such as Victor Hu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ayings 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ody does good to a man with impun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artist there is never anything ugly in natur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References 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metmuesem.or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art.c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0" presetSubtype="149866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0" presetSubtype="149866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The End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20:04:08Z</dcterms:created>
  <dc:creator>Ryan Teeter</dc:creator>
  <dc:description/>
  <dc:language>en-US</dc:language>
  <cp:lastModifiedBy>WinuE</cp:lastModifiedBy>
  <dcterms:modified xsi:type="dcterms:W3CDTF">2010-06-08T16:35:08Z</dcterms:modified>
  <cp:revision>3</cp:revision>
  <dc:subject/>
  <dc:title>Auguste Rodin </dc:title>
</cp:coreProperties>
</file>